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9.gif" ContentType="image/gi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9.wmf" ContentType="image/x-wmf"/>
  <Override PartName="/ppt/media/image36.wmf" ContentType="image/x-wmf"/>
  <Override PartName="/ppt/media/image17.wmf" ContentType="image/x-wmf"/>
  <Override PartName="/ppt/media/image57.wmf" ContentType="image/x-wmf"/>
  <Override PartName="/ppt/media/image20.wmf" ContentType="image/x-wmf"/>
  <Override PartName="/ppt/media/image18.wmf" ContentType="image/x-wmf"/>
  <Override PartName="/ppt/media/image60.wmf" ContentType="image/x-wmf"/>
  <Override PartName="/ppt/media/image2.jpeg" ContentType="image/jpeg"/>
  <Override PartName="/ppt/media/image21.wmf" ContentType="image/x-wmf"/>
  <Override PartName="/ppt/media/image58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75.wmf" ContentType="image/x-wmf"/>
  <Override PartName="/ppt/media/image5.png" ContentType="image/png"/>
  <Override PartName="/ppt/media/image26.wmf" ContentType="image/x-wmf"/>
  <Override PartName="/ppt/media/image63.wmf" ContentType="image/x-wmf"/>
  <Override PartName="/ppt/media/image74.wmf" ContentType="image/x-wmf"/>
  <Override PartName="/ppt/media/image4.png" ContentType="image/png"/>
  <Override PartName="/ppt/media/image73.wmf" ContentType="image/x-wmf"/>
  <Override PartName="/ppt/media/image3.png" ContentType="image/png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22.wmf" ContentType="image/x-wmf"/>
  <Override PartName="/ppt/media/image59.wmf" ContentType="image/x-wmf"/>
  <Override PartName="/ppt/media/image35.wmf" ContentType="image/x-wmf"/>
  <Override PartName="/ppt/media/image11.wmf" ContentType="image/x-wmf"/>
  <Override PartName="/ppt/media/image48.wmf" ContentType="image/x-wmf"/>
  <Override PartName="/ppt/media/image33.wmf" ContentType="image/x-wmf"/>
  <Override PartName="/ppt/media/image34.wmf" ContentType="image/x-wmf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3104-26CC-4CF4-80B0-2E97A47F8A3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14F-C67A-40E5-8202-137D00E367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E04-C635-4FC4-AAA5-5CACB6DF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F42-BB00-4ED8-B338-4F655974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2EB-3E00-4C5D-A19A-80BCB1E5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A23-408E-4F3B-BB89-E27D2DE6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860-01B2-44C9-B1C4-EE84AFEE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D10-4B3F-4901-85DB-A50218DE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9E0-6AAF-4F3E-AADB-44F4EA92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CBA-4FF3-4D5B-9A7C-5B10A808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B6E-1AC9-4FA6-9A04-A1155BB0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0FE-A349-4FA3-9427-6240D647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BA6-760F-4388-B4D7-7B534D3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012-B5A3-4B82-96B4-51BAC35B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896C-F72E-4B0B-B390-267E4EBB47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3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1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2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3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64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65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66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67.wmf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68.wmf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69.wmf"/><Relationship Id="rId3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2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2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13.wmf"/><Relationship Id="rId13" Type="http://schemas.openxmlformats.org/officeDocument/2006/relationships/image" Target="../media/image9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2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4.wmf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40.wmf"/><Relationship Id="rId13" Type="http://schemas.openxmlformats.org/officeDocument/2006/relationships/image" Target="../media/image9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2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极限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0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9" name="Object 3"/>
          <p:cNvGraphicFramePr/>
          <p:nvPr/>
        </p:nvGraphicFramePr>
        <p:xfrm>
          <a:off x="930240" y="692280"/>
          <a:ext cx="7283520" cy="4103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30240" y="692280"/>
                    <a:ext cx="72835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0" name="Object 28"/>
          <p:cNvGraphicFramePr/>
          <p:nvPr/>
        </p:nvGraphicFramePr>
        <p:xfrm>
          <a:off x="1187280" y="4365720"/>
          <a:ext cx="170208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4365720"/>
                    <a:ext cx="1702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29"/>
          <p:cNvGraphicFramePr/>
          <p:nvPr/>
        </p:nvGraphicFramePr>
        <p:xfrm>
          <a:off x="3492360" y="4005360"/>
          <a:ext cx="1809720" cy="890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4005360"/>
                    <a:ext cx="180972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30"/>
          <p:cNvGraphicFramePr/>
          <p:nvPr/>
        </p:nvGraphicFramePr>
        <p:xfrm>
          <a:off x="3492360" y="5013360"/>
          <a:ext cx="3673440" cy="89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5013360"/>
                    <a:ext cx="36734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8" name="Object 31"/>
          <p:cNvGraphicFramePr/>
          <p:nvPr/>
        </p:nvGraphicFramePr>
        <p:xfrm>
          <a:off x="826920" y="907920"/>
          <a:ext cx="7074000" cy="1011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9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07920"/>
                    <a:ext cx="70740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3635280" y="2492280"/>
          <a:ext cx="4014720" cy="72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5280" y="2492280"/>
                    <a:ext cx="4014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6"/>
          <p:cNvGraphicFramePr/>
          <p:nvPr/>
        </p:nvGraphicFramePr>
        <p:xfrm>
          <a:off x="1547640" y="2492280"/>
          <a:ext cx="1927440" cy="72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5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2492280"/>
                    <a:ext cx="19274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8"/>
          <p:cNvGraphicFramePr/>
          <p:nvPr/>
        </p:nvGraphicFramePr>
        <p:xfrm>
          <a:off x="755640" y="1484280"/>
          <a:ext cx="83664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1484280"/>
                    <a:ext cx="836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9"/>
          <p:cNvGraphicFramePr/>
          <p:nvPr/>
        </p:nvGraphicFramePr>
        <p:xfrm>
          <a:off x="971640" y="1484280"/>
          <a:ext cx="7718400" cy="1025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9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1484280"/>
                    <a:ext cx="77184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0"/>
          <p:cNvGraphicFramePr/>
          <p:nvPr/>
        </p:nvGraphicFramePr>
        <p:xfrm>
          <a:off x="755640" y="2997360"/>
          <a:ext cx="517680" cy="419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5640" y="2997360"/>
                    <a:ext cx="5176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1"/>
          <p:cNvGraphicFramePr/>
          <p:nvPr/>
        </p:nvGraphicFramePr>
        <p:xfrm>
          <a:off x="971640" y="3357720"/>
          <a:ext cx="7427880" cy="1166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71640" y="3357720"/>
                    <a:ext cx="74278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2"/>
          <p:cNvGraphicFramePr/>
          <p:nvPr/>
        </p:nvGraphicFramePr>
        <p:xfrm>
          <a:off x="781200" y="4653000"/>
          <a:ext cx="7914960" cy="987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5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81200" y="4653000"/>
                    <a:ext cx="79149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6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7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5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8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8" name="Object 3"/>
          <p:cNvGraphicFramePr/>
          <p:nvPr/>
        </p:nvGraphicFramePr>
        <p:xfrm>
          <a:off x="754200" y="907920"/>
          <a:ext cx="6265800" cy="2376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907920"/>
                    <a:ext cx="626580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31"/>
          <p:cNvGraphicFramePr/>
          <p:nvPr/>
        </p:nvGraphicFramePr>
        <p:xfrm>
          <a:off x="754200" y="2855880"/>
          <a:ext cx="6472080" cy="2660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2855880"/>
                    <a:ext cx="647208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32"/>
          <p:cNvGraphicFramePr/>
          <p:nvPr/>
        </p:nvGraphicFramePr>
        <p:xfrm>
          <a:off x="755640" y="3789360"/>
          <a:ext cx="4970520" cy="23716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93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789360"/>
                    <a:ext cx="49705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4" name="Picture 33" descr=""/>
          <p:cNvPicPr/>
          <p:nvPr/>
        </p:nvPicPr>
        <p:blipFill>
          <a:blip r:embed="rId12"/>
          <a:stretch/>
        </p:blipFill>
        <p:spPr>
          <a:xfrm>
            <a:off x="5076720" y="2924280"/>
            <a:ext cx="341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1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9"/>
          <p:cNvGraphicFramePr/>
          <p:nvPr/>
        </p:nvGraphicFramePr>
        <p:xfrm>
          <a:off x="611280" y="1268280"/>
          <a:ext cx="7915320" cy="98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268280"/>
                    <a:ext cx="79153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0"/>
          <p:cNvGraphicFramePr/>
          <p:nvPr/>
        </p:nvGraphicFramePr>
        <p:xfrm>
          <a:off x="1476360" y="3357720"/>
          <a:ext cx="1819440" cy="75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2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6360" y="3357720"/>
                    <a:ext cx="18194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直接连接符 41"/>
          <p:cNvSpPr/>
          <p:nvPr/>
        </p:nvSpPr>
        <p:spPr>
          <a:xfrm>
            <a:off x="6156360" y="177336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2"/>
          <p:cNvSpPr/>
          <p:nvPr/>
        </p:nvSpPr>
        <p:spPr>
          <a:xfrm>
            <a:off x="2484360" y="2276640"/>
            <a:ext cx="172728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2"/>
          <p:cNvGraphicFramePr/>
          <p:nvPr/>
        </p:nvGraphicFramePr>
        <p:xfrm>
          <a:off x="1143000" y="2637000"/>
          <a:ext cx="3151080" cy="529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637000"/>
                    <a:ext cx="315108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13"/>
          <p:cNvGraphicFramePr/>
          <p:nvPr/>
        </p:nvGraphicFramePr>
        <p:xfrm>
          <a:off x="4284720" y="2708280"/>
          <a:ext cx="436680" cy="32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8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84720" y="2708280"/>
                    <a:ext cx="43668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4"/>
          <p:cNvGraphicFramePr/>
          <p:nvPr/>
        </p:nvGraphicFramePr>
        <p:xfrm>
          <a:off x="1174680" y="4869000"/>
          <a:ext cx="3254400" cy="882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0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74680" y="4869000"/>
                    <a:ext cx="32544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15"/>
          <p:cNvGraphicFramePr/>
          <p:nvPr/>
        </p:nvGraphicFramePr>
        <p:xfrm>
          <a:off x="1895400" y="5805360"/>
          <a:ext cx="1023840" cy="53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2" name="Object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895400" y="5805360"/>
                    <a:ext cx="10238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16"/>
          <p:cNvGraphicFramePr/>
          <p:nvPr/>
        </p:nvGraphicFramePr>
        <p:xfrm>
          <a:off x="2987640" y="5877000"/>
          <a:ext cx="897120" cy="37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4" name="Object 1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987640" y="5877000"/>
                    <a:ext cx="8971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17"/>
          <p:cNvGraphicFramePr/>
          <p:nvPr/>
        </p:nvGraphicFramePr>
        <p:xfrm>
          <a:off x="5148360" y="2565360"/>
          <a:ext cx="2901960" cy="784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36" name="Object 1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48360" y="2565360"/>
                    <a:ext cx="29019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18"/>
          <p:cNvGraphicFramePr/>
          <p:nvPr/>
        </p:nvGraphicFramePr>
        <p:xfrm>
          <a:off x="3635280" y="3573360"/>
          <a:ext cx="1973520" cy="352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38" name="Object 1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635280" y="3573360"/>
                    <a:ext cx="19735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19"/>
          <p:cNvGraphicFramePr/>
          <p:nvPr/>
        </p:nvGraphicFramePr>
        <p:xfrm>
          <a:off x="4500720" y="5445000"/>
          <a:ext cx="3717720" cy="3762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500720" y="5445000"/>
                    <a:ext cx="3717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0"/>
          <p:cNvGraphicFramePr/>
          <p:nvPr/>
        </p:nvGraphicFramePr>
        <p:xfrm>
          <a:off x="4716360" y="5950080"/>
          <a:ext cx="2511360" cy="3524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42" name="Object 20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716360" y="5950080"/>
                    <a:ext cx="25113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21"/>
          <p:cNvGraphicFramePr/>
          <p:nvPr/>
        </p:nvGraphicFramePr>
        <p:xfrm>
          <a:off x="1116000" y="4076640"/>
          <a:ext cx="2998800" cy="882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44" name="Object 2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116000" y="4076640"/>
                    <a:ext cx="29988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22"/>
          <p:cNvGraphicFramePr/>
          <p:nvPr/>
        </p:nvGraphicFramePr>
        <p:xfrm>
          <a:off x="4211640" y="4365720"/>
          <a:ext cx="1025640" cy="5302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46" name="Object 22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211640" y="4365720"/>
                    <a:ext cx="10256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23"/>
          <p:cNvGraphicFramePr/>
          <p:nvPr/>
        </p:nvGraphicFramePr>
        <p:xfrm>
          <a:off x="5219640" y="4437000"/>
          <a:ext cx="384120" cy="3286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48" name="Object 23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219640" y="4437000"/>
                    <a:ext cx="38412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24"/>
          <p:cNvGraphicFramePr/>
          <p:nvPr/>
        </p:nvGraphicFramePr>
        <p:xfrm>
          <a:off x="5580000" y="4221000"/>
          <a:ext cx="2979720" cy="784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50" name="Object 24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5580000" y="4221000"/>
                    <a:ext cx="297972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4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5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3" name="Object 4"/>
          <p:cNvGraphicFramePr/>
          <p:nvPr/>
        </p:nvGraphicFramePr>
        <p:xfrm>
          <a:off x="1187280" y="1341360"/>
          <a:ext cx="792360" cy="40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1341360"/>
                    <a:ext cx="7923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5"/>
          <p:cNvGraphicFramePr/>
          <p:nvPr/>
        </p:nvGraphicFramePr>
        <p:xfrm>
          <a:off x="900000" y="2276640"/>
          <a:ext cx="441036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2276640"/>
                    <a:ext cx="4410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5364000" y="2276640"/>
          <a:ext cx="346248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64000" y="2276640"/>
                    <a:ext cx="3462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8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8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5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9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1" name="Object 3"/>
          <p:cNvGraphicFramePr/>
          <p:nvPr/>
        </p:nvGraphicFramePr>
        <p:xfrm>
          <a:off x="1116000" y="1630440"/>
          <a:ext cx="7128000" cy="2603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630440"/>
                    <a:ext cx="712800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3"/>
          <p:cNvGraphicFramePr/>
          <p:nvPr/>
        </p:nvGraphicFramePr>
        <p:xfrm>
          <a:off x="1187280" y="3573360"/>
          <a:ext cx="7201080" cy="2630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0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3573360"/>
                    <a:ext cx="72010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28"/>
          <p:cNvGraphicFramePr/>
          <p:nvPr/>
        </p:nvGraphicFramePr>
        <p:xfrm>
          <a:off x="1619280" y="2133720"/>
          <a:ext cx="720720" cy="55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2133720"/>
                    <a:ext cx="7207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29"/>
          <p:cNvGraphicFramePr/>
          <p:nvPr/>
        </p:nvGraphicFramePr>
        <p:xfrm>
          <a:off x="6084720" y="2781360"/>
          <a:ext cx="720720" cy="555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8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84720" y="2781360"/>
                    <a:ext cx="7207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1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2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50"/>
          <p:cNvSpPr/>
          <p:nvPr/>
        </p:nvSpPr>
        <p:spPr>
          <a:xfrm>
            <a:off x="2411280" y="31669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极限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3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导    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7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258920" y="944640"/>
          <a:ext cx="6545160" cy="2036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58920" y="944640"/>
                    <a:ext cx="654516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6"/>
          <p:cNvGraphicFramePr/>
          <p:nvPr/>
        </p:nvGraphicFramePr>
        <p:xfrm>
          <a:off x="1258920" y="3027240"/>
          <a:ext cx="6545160" cy="3641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3027240"/>
                    <a:ext cx="65451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组合 21"/>
          <p:cNvGrpSpPr/>
          <p:nvPr/>
        </p:nvGrpSpPr>
        <p:grpSpPr>
          <a:xfrm>
            <a:off x="4932360" y="2060640"/>
            <a:ext cx="1682280" cy="714240"/>
            <a:chOff x="4932360" y="2060640"/>
            <a:chExt cx="1682280" cy="714240"/>
          </a:xfrm>
        </p:grpSpPr>
        <p:sp>
          <p:nvSpPr>
            <p:cNvPr id="76" name="TextBox 27"/>
            <p:cNvSpPr/>
            <p:nvPr/>
          </p:nvSpPr>
          <p:spPr>
            <a:xfrm>
              <a:off x="5748120" y="2276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割圆术演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4932360" y="2060640"/>
              <a:ext cx="71388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探    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" name="Object 45"/>
          <p:cNvGraphicFramePr/>
          <p:nvPr/>
        </p:nvGraphicFramePr>
        <p:xfrm>
          <a:off x="1182600" y="1119240"/>
          <a:ext cx="6369120" cy="1544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1" name="Object 4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2600" y="1119240"/>
                    <a:ext cx="636912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46" descr=""/>
          <p:cNvPicPr/>
          <p:nvPr/>
        </p:nvPicPr>
        <p:blipFill>
          <a:blip r:embed="rId8"/>
          <a:stretch/>
        </p:blipFill>
        <p:spPr>
          <a:xfrm>
            <a:off x="1044720" y="2637000"/>
            <a:ext cx="3456000" cy="35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4"/>
          <p:cNvGraphicFramePr/>
          <p:nvPr/>
        </p:nvGraphicFramePr>
        <p:xfrm>
          <a:off x="826920" y="1628640"/>
          <a:ext cx="7405920" cy="2808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1628640"/>
                    <a:ext cx="74059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2"/>
          <p:cNvGraphicFramePr/>
          <p:nvPr/>
        </p:nvGraphicFramePr>
        <p:xfrm>
          <a:off x="4211640" y="3068640"/>
          <a:ext cx="4322880" cy="19447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0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1640" y="3068640"/>
                    <a:ext cx="43228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组合 21"/>
          <p:cNvGrpSpPr/>
          <p:nvPr/>
        </p:nvGrpSpPr>
        <p:grpSpPr>
          <a:xfrm>
            <a:off x="4572000" y="5013360"/>
            <a:ext cx="1906920" cy="714240"/>
            <a:chOff x="4572000" y="5013360"/>
            <a:chExt cx="1906920" cy="714240"/>
          </a:xfrm>
        </p:grpSpPr>
        <p:pic>
          <p:nvPicPr>
            <p:cNvPr id="108" name="Picture 33" descr="00066"/>
            <p:cNvPicPr/>
            <p:nvPr/>
          </p:nvPicPr>
          <p:blipFill>
            <a:blip r:embed="rId13"/>
            <a:stretch/>
          </p:blipFill>
          <p:spPr>
            <a:xfrm>
              <a:off x="4572000" y="50133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23"/>
            <p:cNvSpPr/>
            <p:nvPr/>
          </p:nvSpPr>
          <p:spPr>
            <a:xfrm>
              <a:off x="5444640" y="5085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2" name="Object 58"/>
          <p:cNvGraphicFramePr/>
          <p:nvPr/>
        </p:nvGraphicFramePr>
        <p:xfrm>
          <a:off x="755640" y="692280"/>
          <a:ext cx="7704000" cy="4392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3" name="Object 5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770400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27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28"/>
          <p:cNvGraphicFramePr/>
          <p:nvPr/>
        </p:nvGraphicFramePr>
        <p:xfrm>
          <a:off x="1258920" y="4581360"/>
          <a:ext cx="170172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7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4581360"/>
                    <a:ext cx="1701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29"/>
          <p:cNvGraphicFramePr/>
          <p:nvPr/>
        </p:nvGraphicFramePr>
        <p:xfrm>
          <a:off x="3348000" y="5373720"/>
          <a:ext cx="1270080" cy="836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9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5373720"/>
                    <a:ext cx="12700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1"/>
          <p:cNvGraphicFramePr/>
          <p:nvPr/>
        </p:nvGraphicFramePr>
        <p:xfrm>
          <a:off x="3203640" y="4365720"/>
          <a:ext cx="2917800" cy="83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1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03640" y="4365720"/>
                    <a:ext cx="2917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2"/>
          <p:cNvGraphicFramePr/>
          <p:nvPr/>
        </p:nvGraphicFramePr>
        <p:xfrm>
          <a:off x="4788000" y="5445000"/>
          <a:ext cx="3378240" cy="83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3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88000" y="5445000"/>
                    <a:ext cx="3378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6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Object 3"/>
          <p:cNvGraphicFramePr/>
          <p:nvPr/>
        </p:nvGraphicFramePr>
        <p:xfrm>
          <a:off x="900000" y="549360"/>
          <a:ext cx="7809120" cy="187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549360"/>
                    <a:ext cx="78091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18" descr=""/>
          <p:cNvPicPr/>
          <p:nvPr/>
        </p:nvPicPr>
        <p:blipFill>
          <a:blip r:embed="rId8"/>
          <a:stretch/>
        </p:blipFill>
        <p:spPr>
          <a:xfrm>
            <a:off x="2124000" y="3032280"/>
            <a:ext cx="4176720" cy="30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6"/>
          <p:cNvGraphicFramePr/>
          <p:nvPr/>
        </p:nvGraphicFramePr>
        <p:xfrm>
          <a:off x="684360" y="1844640"/>
          <a:ext cx="7315200" cy="10414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70" name="Object 5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1844640"/>
                    <a:ext cx="73152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6"/>
          <p:cNvGraphicFramePr/>
          <p:nvPr/>
        </p:nvGraphicFramePr>
        <p:xfrm>
          <a:off x="1619280" y="2565360"/>
          <a:ext cx="3600360" cy="647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72" name="Object 5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19280" y="2565360"/>
                    <a:ext cx="3600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9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Object 17"/>
          <p:cNvGraphicFramePr/>
          <p:nvPr/>
        </p:nvGraphicFramePr>
        <p:xfrm>
          <a:off x="546120" y="765000"/>
          <a:ext cx="7940520" cy="103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6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120" y="765000"/>
                    <a:ext cx="79405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19" descr=""/>
          <p:cNvPicPr/>
          <p:nvPr/>
        </p:nvPicPr>
        <p:blipFill>
          <a:blip r:embed="rId8"/>
          <a:srcRect l="44188" t="0" r="21061" b="19566"/>
          <a:stretch/>
        </p:blipFill>
        <p:spPr>
          <a:xfrm>
            <a:off x="2627280" y="2924280"/>
            <a:ext cx="43704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Object 17"/>
          <p:cNvGraphicFramePr/>
          <p:nvPr/>
        </p:nvGraphicFramePr>
        <p:xfrm>
          <a:off x="539640" y="1341360"/>
          <a:ext cx="7940880" cy="3144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9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341360"/>
                    <a:ext cx="79408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圆角矩形 5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0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1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1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2" name="Object 2"/>
          <p:cNvGraphicFramePr/>
          <p:nvPr/>
        </p:nvGraphicFramePr>
        <p:xfrm>
          <a:off x="900000" y="1052640"/>
          <a:ext cx="93528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052640"/>
                    <a:ext cx="9352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2050920" y="981000"/>
          <a:ext cx="5631120" cy="54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0920" y="981000"/>
                    <a:ext cx="56311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4"/>
          <p:cNvGraphicFramePr/>
          <p:nvPr/>
        </p:nvGraphicFramePr>
        <p:xfrm>
          <a:off x="1258920" y="1628640"/>
          <a:ext cx="5661000" cy="69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1628640"/>
                    <a:ext cx="56610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5"/>
          <p:cNvGraphicFramePr/>
          <p:nvPr/>
        </p:nvGraphicFramePr>
        <p:xfrm>
          <a:off x="1258920" y="2276640"/>
          <a:ext cx="5721480" cy="512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2276640"/>
                    <a:ext cx="5721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1908000" y="2852640"/>
          <a:ext cx="3764160" cy="693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08000" y="2852640"/>
                    <a:ext cx="37641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1187280" y="3500280"/>
          <a:ext cx="2921040" cy="693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87280" y="3500280"/>
                    <a:ext cx="29210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8"/>
          <p:cNvGraphicFramePr/>
          <p:nvPr/>
        </p:nvGraphicFramePr>
        <p:xfrm>
          <a:off x="4356000" y="3500280"/>
          <a:ext cx="2289240" cy="693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356000" y="3500280"/>
                    <a:ext cx="22892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755640" y="4292640"/>
          <a:ext cx="7650000" cy="603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55640" y="4292640"/>
                    <a:ext cx="76500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5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0" name="Object 4"/>
          <p:cNvGraphicFramePr/>
          <p:nvPr/>
        </p:nvGraphicFramePr>
        <p:xfrm>
          <a:off x="1116000" y="1413000"/>
          <a:ext cx="93492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413000"/>
                    <a:ext cx="9349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5"/>
          <p:cNvGraphicFramePr/>
          <p:nvPr/>
        </p:nvGraphicFramePr>
        <p:xfrm>
          <a:off x="1403280" y="2276640"/>
          <a:ext cx="5600880" cy="102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3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3280" y="2276640"/>
                    <a:ext cx="56008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6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6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7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8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探    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Object 3"/>
          <p:cNvGraphicFramePr/>
          <p:nvPr/>
        </p:nvGraphicFramePr>
        <p:xfrm>
          <a:off x="1176480" y="1177920"/>
          <a:ext cx="7283160" cy="882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6480" y="1177920"/>
                    <a:ext cx="72831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40"/>
          <p:cNvGraphicFramePr/>
          <p:nvPr/>
        </p:nvGraphicFramePr>
        <p:xfrm>
          <a:off x="1176480" y="1557360"/>
          <a:ext cx="7283160" cy="1440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89" name="Object 4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76480" y="1557360"/>
                    <a:ext cx="72831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Picture 41" descr=""/>
          <p:cNvPicPr/>
          <p:nvPr/>
        </p:nvPicPr>
        <p:blipFill>
          <a:blip r:embed="rId10"/>
          <a:stretch/>
        </p:blipFill>
        <p:spPr>
          <a:xfrm>
            <a:off x="568440" y="2924280"/>
            <a:ext cx="2923920" cy="241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2"/>
          <p:cNvGraphicFramePr/>
          <p:nvPr/>
        </p:nvGraphicFramePr>
        <p:xfrm>
          <a:off x="3635280" y="2276640"/>
          <a:ext cx="5054760" cy="43178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92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5280" y="2276640"/>
                    <a:ext cx="505476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3" name="组合 21"/>
          <p:cNvGrpSpPr/>
          <p:nvPr/>
        </p:nvGrpSpPr>
        <p:grpSpPr>
          <a:xfrm>
            <a:off x="826920" y="5373720"/>
            <a:ext cx="1906920" cy="714240"/>
            <a:chOff x="826920" y="5373720"/>
            <a:chExt cx="1906920" cy="714240"/>
          </a:xfrm>
        </p:grpSpPr>
        <p:pic>
          <p:nvPicPr>
            <p:cNvPr id="294" name="Picture 33" descr="00066"/>
            <p:cNvPicPr/>
            <p:nvPr/>
          </p:nvPicPr>
          <p:blipFill>
            <a:blip r:embed="rId13"/>
            <a:stretch/>
          </p:blipFill>
          <p:spPr>
            <a:xfrm>
              <a:off x="826920" y="537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Box 23"/>
            <p:cNvSpPr/>
            <p:nvPr/>
          </p:nvSpPr>
          <p:spPr>
            <a:xfrm>
              <a:off x="1699560" y="544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3:20Z</dcterms:modified>
  <cp:revision>83</cp:revision>
  <dc:subject/>
  <dc:title>幻灯片 1</dc:title>
</cp:coreProperties>
</file>